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83B-6400-494D-A2E7-53CD0C55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A70-57A5-4C34-83CF-6E08E08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86D-31D4-4BD7-8E88-23A63B85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A46-1B2D-4792-B0F5-DC4C6120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9ACE-B448-4597-AE37-D56F7654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0189-73E6-45F7-BC08-DB8CF3BA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499E-B2FF-44AC-AB94-35FE2C2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279E-40EE-4B3C-ACDA-A308D0AF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6B6D-0A26-4DD6-ABC6-57044538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A9F7-FB5A-4347-903A-C2B22457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3CCC-CE5C-4813-9CCC-98F6052A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10D-48AC-489F-98F7-5FF0CBC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61EE-5A0B-4FD4-BFB0-B2C738FE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783A-9A5B-4167-9782-53F0B65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4A3A-D03F-4951-934B-C4B3CE9A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4D2B-9B1D-44AC-805C-B93367B2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ABF-2D50-4531-9947-349BA3C4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8E0C-E3A5-4CC4-888B-7FDB8B00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8F3B-9B80-436B-A15F-FA9D388C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2428-3553-464B-9ACE-1583ABF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0CEE-C8C6-4DB9-84D8-176DC84F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3CC8C-C82A-470A-9058-9DE51FDD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FA0-41C1-48B7-90C2-916FDB90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D30D-2C0D-49C6-B10D-810C09FE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5759-E069-4CAA-9B94-972CE21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9739-DB2F-4AC3-9BE7-D0DF31FC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6A71-BCC7-473A-8824-AD98641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701C-0DF0-4FE4-96BE-4F440D4C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D47A-C77F-47A8-AB8B-382E8952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4226-2E7A-4D59-8347-25D622C7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8BF-48FC-4E94-97A7-C5D8B005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444-B4F0-4AAA-B537-93C57ED0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B06-8AC9-490B-AEC2-7ADB48C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923-4617-461B-8C12-8DB282B6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AD2-6065-42A2-A57B-78A5025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92B-C542-47BB-9E0B-7C14DEBE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fld id="{1E3EA12D-52D7-4C07-B948-76616BB20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ACF-676C-49EB-B3BB-E8C8B34004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30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33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36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139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140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8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2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8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9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0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1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2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3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4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5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BA0D827E-605D-4A8C-9095-21F094C91A2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04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Me llamo _________ Clase 6nh</a:t>
            </a:r>
            <a:br>
              <a:rPr sz="4400"/>
            </a:b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La fecha es el 22 de mayo del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5400" y="1371600"/>
            <a:ext cx="889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ropósito # 66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¿a dónde están ustedes ah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ategoriza las siguientes or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Comic Sans MS"/>
              </a:rPr>
              <a:t>Origen-indentificacion-caracteristica-hora y fecha-evento-posesion-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berto es chil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VD es de Lisj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isa es muy inteli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¿Son las tres de la tarde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otella es de plá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nis es de Argentina y Colom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xámenes estatales son en abr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           </a:t>
            </a:r>
            <a:fld id="{0017C602-E110-43E3-A95B-C9CC639D6B51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7D6FB20F-F3AF-4447-91AA-7C738C7A58C5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61526AAC-76D9-472D-8652-20EA729A2CB1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6" name="Picture 5" descr="an00106_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C2A6179B-9C09-49EB-BCBF-277E775924A5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30" name="Picture 5" descr="pe03704_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BB890393-F20C-41A8-9946-9FBE78E63F83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uegando bien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34" name="Picture 5" descr="j0079256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045-4921-4BB6-BDB7-4082860714BE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rar el DVD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Gramática en vivo: Ser y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ctividades 1 y 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tus compañeros de mesa,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ablar 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6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riban sus descripciones en sus cuader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1-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7-68 (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66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dcterms:modified xsi:type="dcterms:W3CDTF">2013-05-20T16:40:42Z</dcterms:modified>
  <cp:revision>98</cp:revision>
  <dc:subject/>
  <dc:title>Ser &amp; Estar</dc:title>
</cp:coreProperties>
</file>